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49A9-5D47-4FD7-98C8-2BA958DCE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D9D2-4CE4-448A-B54F-60E7B6871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D7C2-1418-4A85-8BCD-8CD6E1BA1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BE32-AA23-4642-A47D-0FBCCA0D0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D673-1C30-4FBC-AAE1-6BB3F7B15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ECD6-A501-4937-AC7B-0EDE10041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781A-9AC1-41AB-9A65-8C0B3DC41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EA48-92E4-4699-B009-BB23A0A77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66F0-F5A1-4701-9788-069D7B07C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E9A8-75ED-4C88-B27E-CF886E97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54E8-702E-4EFB-BF26-5F10E798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246C-ABF4-4488-99E5-81FF6502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C533E-C715-41B8-B803-9151E9BB5A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9144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SDUH Interview Appoin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348160" y="91440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0948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34816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80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3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7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6600" y="826920"/>
            <a:ext cx="4114800" cy="2602080"/>
            <a:chOff x="66600" y="826920"/>
            <a:chExt cx="4114800" cy="2602080"/>
          </a:xfrm>
        </p:grpSpPr>
        <p:sp>
          <p:nvSpPr>
            <p:cNvPr id="91" name=""/>
            <p:cNvSpPr/>
            <p:nvPr/>
          </p:nvSpPr>
          <p:spPr>
            <a:xfrm>
              <a:off x="6660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27672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7632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4952880" y="826920"/>
            <a:ext cx="4114800" cy="2602080"/>
            <a:chOff x="4952880" y="826920"/>
            <a:chExt cx="4114800" cy="2602080"/>
          </a:xfrm>
        </p:grpSpPr>
        <p:sp>
          <p:nvSpPr>
            <p:cNvPr id="96" name=""/>
            <p:cNvSpPr/>
            <p:nvPr/>
          </p:nvSpPr>
          <p:spPr>
            <a:xfrm>
              <a:off x="495288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2436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16300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96260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4952880" y="3570120"/>
            <a:ext cx="4114800" cy="2602080"/>
            <a:chOff x="4952880" y="3570120"/>
            <a:chExt cx="4114800" cy="2602080"/>
          </a:xfrm>
        </p:grpSpPr>
        <p:sp>
          <p:nvSpPr>
            <p:cNvPr id="101" name=""/>
            <p:cNvSpPr/>
            <p:nvPr/>
          </p:nvSpPr>
          <p:spPr>
            <a:xfrm>
              <a:off x="495288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436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816300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496260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76320" y="3570120"/>
            <a:ext cx="4114800" cy="2602080"/>
            <a:chOff x="76320" y="3570120"/>
            <a:chExt cx="4114800" cy="2602080"/>
          </a:xfrm>
        </p:grpSpPr>
        <p:sp>
          <p:nvSpPr>
            <p:cNvPr id="106" name=""/>
            <p:cNvSpPr/>
            <p:nvPr/>
          </p:nvSpPr>
          <p:spPr>
            <a:xfrm>
              <a:off x="7632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780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328644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8604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NSDUH</cp:lastModifiedBy>
  <dcterms:modified xsi:type="dcterms:W3CDTF">2007-05-22T00:18:57Z</dcterms:modified>
  <cp:revision>8</cp:revision>
  <dc:subject/>
  <dc:title>PowerPoint Presentation</dc:title>
</cp:coreProperties>
</file>